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60A-E418-453D-B3B2-ED344A14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734-A9B6-47F6-AD42-502C65D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8E3-80B5-4D1B-998F-71A22931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CAF-AA6C-4BA1-8806-EDFFA8AC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2594-6F8C-4DE9-AA9F-473A437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D136-46F2-4D9F-8B7A-F27D253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2B93-F659-43C9-BF00-26C404B5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FF3-46D9-46FB-B344-A4FADBD8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481D-CA98-4E0A-B476-A8CE337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9E87-9DE5-41F8-A14F-43E2733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DD4F-D969-460A-A0A1-0F907FE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498-E8C7-4B04-947A-83B3CD56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F51B-A3CB-4066-8B6B-36831C2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2D50-3A4B-49AE-8C79-98D1FA9A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7DA-0641-45EE-8943-C8BD4685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3960-3725-4B4B-BB0D-F8079099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E85C-9872-4C24-9EE1-6F3E112E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C56-F6D3-42D0-B379-17B98A3B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FDB-74B8-460A-B363-98449F56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F1C-B34D-4FCC-B32F-251009E2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26A-4D02-4560-9A5E-727A11CD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419-E5AE-4FAA-B76F-FF199CD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A86-EFBD-43CA-B911-EA60E04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E80-4E73-4AC2-B4E6-C607A6C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FB2E-6D95-4DFD-B00B-0E64174ACE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1AA7-293F-4EA6-9ED4-9FFED1D375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C:\Documents and Settings\Администратор\Application Data\Microsoft\Media Catalog\s.gif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Times New Roman"/>
              </a:rPr>
              <a:t>Метаболизм углеводов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7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8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534520" cy="32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. В качестве пищевого продукта (хлеб, картофель, крупы и т. 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. Для изготовления  канцелярского кле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медицине и фармации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крахмал"/>
          <p:cNvPicPr/>
          <p:nvPr/>
        </p:nvPicPr>
        <p:blipFill>
          <a:blip r:embed="rId1"/>
          <a:stretch/>
        </p:blipFill>
        <p:spPr>
          <a:xfrm>
            <a:off x="5219640" y="4581360"/>
            <a:ext cx="3311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57200" y="2286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4572000" y="152388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http://www.college.ru/biology/course/content/javagifs/08010208.gif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59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3886200" y="320040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3860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228600" y="16002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простые сахара вступают в реакцию с сахарными спиртами и кислотами. Образующиеся при этом вещества близки к полисахаридам и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полисахарид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е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ет роль структурного компонента в клетках. Гликопротеины и гликолипиды определяют антигенные свойства клеток. Гиалуроновая кислота и хондроитинсульфат – важные компоненты соединительной ткани позвоночных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з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меют важную защитную функцию в организма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0" y="3429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7" descr="http://www.college.ru/biology/course/content/chapter8/section1/paragraph2/images/08010210.jpg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380880" y="3657600"/>
            <a:ext cx="78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распространённы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меющие формулу (CH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се моносахариды имеют сладкий вкус, кристаллизуются и легко растворяются в в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533520" y="60948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дые вещества, способные  кристаллизоваться. Они гидроскопичны, очень легко растворимы в воде, легко образуют сиропы, из которых выделить их в кристаллическом виде бывает очень труд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6" descr="http://www.college.ru/biology/course/content/javagifs/08010201.gif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4920" y="228600"/>
            <a:ext cx="382104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XP GAME 2010</cp:lastModifiedBy>
  <dcterms:modified xsi:type="dcterms:W3CDTF">2012-11-30T10:03:57Z</dcterms:modified>
  <cp:revision>54</cp:revision>
  <dc:subject/>
  <dc:title> ПРЕЗЕНТАЦИЯ по химии</dc:title>
</cp:coreProperties>
</file>